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B73-6899-4E1B-9E78-0EB85401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AC5-DC23-4493-899A-9715B957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A54-BA52-4A05-9DE4-FCFB7072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E68-6FA8-435B-AA07-B9FE1FA9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E8A0-855C-42D5-9C6B-FD92CBBA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2AA1-41F4-4EA6-B5D7-629CCD92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AC34-884C-438D-A26B-2AA565A0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1E80-470F-44EB-90DE-11FD0514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C0B1-058D-4B8E-98EC-F07EECDD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E4B2-52C0-4CE0-A435-B4B89D89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121F-B433-46B1-88A1-A2164970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357-AB35-4BA7-9CFF-7C82B3DF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721B-62CC-406F-908E-D98C40B2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C9FB-57E5-4AE6-BA3E-BFDFECF7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B95C-D432-45AE-A313-B2C4462B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9FB8-25EF-42EA-9D3F-0AD44019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A415-EC1B-405A-8943-E634CFEF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6F4-6A75-46DB-81D3-C56EE335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516-7C1C-4147-9C43-F3F1EAFA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F78-82D6-4EA2-B23E-276CD55D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5A2-120A-47CA-B90B-2F380DF9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D00-F0A2-4408-A04E-D99FF764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DC2-FDC5-42DE-B719-0D5146D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29C-B3BB-4417-8E03-D0BE3489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9DDC-F7F9-43B6-8DF7-DC580DF3C5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34E6-1583-4E90-88B0-4D2B8D88BD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225360" y="1044720"/>
            <a:ext cx="952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43828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219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nimal Vocabul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304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6704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132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1028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884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67200" y="3024360"/>
            <a:ext cx="4871880" cy="32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213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71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8120" y="1717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62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67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85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216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186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44720" y="1784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68240" y="17845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9880" y="3886200"/>
            <a:ext cx="3733920" cy="2467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90720" y="2971800"/>
            <a:ext cx="234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2133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2133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2133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133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2133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2133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1560" y="18288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8288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828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7880" y="1828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182880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3000" y="182880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1828800"/>
            <a:ext cx="2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388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2133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0720" y="18288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09000" y="182880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548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2133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08640" y="1828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5840" y="18288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48520" y="182880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759120" y="2413080"/>
            <a:ext cx="30686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76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81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81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43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4240" y="30492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1800" y="22096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37040" y="22096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1280" y="2209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991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51640" y="22096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3184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76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81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4300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53640" y="21654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2080" y="21654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24080" y="3124080"/>
            <a:ext cx="36576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91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8072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3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8680" y="2133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0" y="2133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946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429000" y="2705040"/>
            <a:ext cx="5181480" cy="3772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3200400" cy="297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5638680" y="228600"/>
            <a:ext cx="30481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2286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2286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8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01520" y="187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9972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051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25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444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53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4240" y="1870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7200" y="609480"/>
            <a:ext cx="84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06320" y="1905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38080" y="2890800"/>
            <a:ext cx="45468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1-02T14:13:37Z</dcterms:modified>
  <cp:revision>22</cp:revision>
  <dc:subject/>
  <dc:title>No Slide Title</dc:title>
</cp:coreProperties>
</file>